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ACE-100B-4155-9AE0-57339CD0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DDB-B5D1-4F1E-B2A7-BC2FFF3B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946-E989-412D-A75C-AC86440D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86F-E87F-4C24-9985-85984C1F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2AE-7369-4895-9DCC-4CF4286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A90-81A8-4519-A089-5A9D4B3B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893-BCED-4108-9020-EE777CBE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6DC-8A0F-4209-9F68-259AA5A1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6C3-64ED-46BF-A595-3C59584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F4D-CAEA-4DAB-B6EA-7BF9A25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07D-A4E6-48CD-88F4-614B4986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C5F-A2C9-475D-A0A6-081D9A9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F2B-C153-41F8-93CE-F71B36154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92720" y="549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62864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Arial"/>
              </a:rPr>
              <a:t>Banco Pop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933720"/>
            <a:ext cx="813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Área: Organización y Administración de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5516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rancisco Camach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692280"/>
            <a:ext cx="51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alianza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413000"/>
            <a:ext cx="9290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6 España firma el acta de adhesión a la Comunidad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8 el Popular crea con el grupo asegurador alemán Allianz al 5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s sociedades Europensiones (dedicadas a la gestión de fondos de pensione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urovida (dedicada a los seguros de vida) y Euroconsulting (dedicada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sesoramiento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en materia de planes de pensiones y sistemas alternativos de previs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9 se suscriben acuerdos de colaboración con el banco alemán Hypo-Ba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y con el holandé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abo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92 el Popular aporta la red de 13 sucursales que tenían en Francia pa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dar un nuevo banco francés llamado Banco Popul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93 las operaciones de Eurobanco (banco filial industrial) se traspasa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rdenadamente al Popul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3680" y="333360"/>
            <a:ext cx="56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tecnología al servicio del nego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gestión enfocada a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83516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provechando la evolución tecnológica, el banco crea en 19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lataforma de banca telefónica y pone en marcha la banca por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implanta un sistema informatizado de crédito al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crea la Euro-Oficina para alcanzar la necesaria adaptación al eu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98 un nuevo equipo directivo potencia la acción comercial cuy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bjetivo cuantitativo consiste en duplicar el tamaño a medio plaz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y cualitativamente reforzar la estrategia de distribución multica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la que internet juega un papel relev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 mediados del 2000 abre sus "puertas" virtuales bancopopular-e.com dirigid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quellas personas que desean operar exclusivamente por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esta misma época comienza la expansión en Portugal mediante apertur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cursales y se acuerda la venta de la plataforma tecnológic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 instalación en un banco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2920" y="52056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000" y="2148480"/>
            <a:ext cx="8957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los ratios de capital del Popular se comparan muy favorable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 otras instituciones nacionales y extranj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El Banco Popular posee una solvencia y liquidez que le permite poten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actividad comercial e incrementar la cuota de mercado incluso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circunstancias actuales de cr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Ha sufrido un fuerte incremento en la captación de negocio incorpor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de 9500 nuevas PYMES en los dos primeros meses del 200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grupo bancario español con la mejor combinación de capi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ntabilidad y eficiencia. (Fitch, Moody´s y Standard &amp; Poor´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62064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1773360"/>
            <a:ext cx="6193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Análisis descrip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Elementos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Factores de contin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Configuración organiz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549360"/>
            <a:ext cx="41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HIS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413000"/>
            <a:ext cx="676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trodu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Año 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Febrero de 19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Década de los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Fases del desarrollo del Banco Pop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81280"/>
            <a:ext cx="8496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pegue, crecimiento y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sis y consoli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alianza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ecnología al servicio del negocio. La gestión enfocad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58972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Act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268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4640"/>
            <a:ext cx="85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Su primera denominación fue Banco Popular de los Previsores del Porven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 capital de: 10.000.000 de pese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bjetivo: Proporcionar a cuantos utilicen sus servicios las may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acilidades en toda clase de asuntos económicos y bancari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alizando todas las operaciones que, como peculiare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s compañías de crédito, se determinan en el Código de Comercio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14 de octubre: inicia sus operaciones con un acto al que asi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Rey Alfonso XIII y el Gobierno de la 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La guerra civil condiciona sus primeros veinte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77336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4 de Julio: constitución del Banco Pop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549360"/>
            <a:ext cx="48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1413000"/>
            <a:ext cx="39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brer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e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256536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Su denominación pasó a ser Banco Popular Españ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apital social asciende a 100.000.000 de pes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213000"/>
            <a:ext cx="561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écada de los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4797360"/>
            <a:ext cx="813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Se sientan las bases del firme desarrollo del banco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549360"/>
            <a:ext cx="48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60280"/>
            <a:ext cx="684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ses del desarrollo del Banco Popu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00280"/>
            <a:ext cx="8496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pegue, crecimiento y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risis y consoli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alianza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ecnología al servicio del negocio. La gestión enfocada a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47628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egue, crecimiento y expa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756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9 auge de la economía española se prolonga hasta 195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opular vive un periodo de fuerte expa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Los depósitos de clientes crec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Sus recursos tuvieron un crecimiento equivalente al 24,93% anual acumula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El beneficio neto tubo un crecimiento equivalente al 25.41% anual acumul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El Popular promovió la creación de un banco industrial y amplia su ga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rvicios especializados a los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4 funda la sociedad de factoring Heller Factoring Españ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65 crea Sogeval gestora de fondos de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n 1966 constituye la empresa de leasing Iber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47628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egue, crecimiento y expa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84280"/>
            <a:ext cx="9756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9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A mediados de los 60 desarrolla en Francia una red propia de sucu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349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 el objetivo de prestar a los inmigrantes servicios bancarios especi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500280"/>
            <a:ext cx="91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En 1967 cede a sus accionistas una parte sustancial de su cartera de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797360"/>
            <a:ext cx="154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este mismo año, el banco de España vinculo al Popular los banc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pularinsa: Andalucía, Castilla, Crédito Balear, Galicia y Vasc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60280"/>
            <a:ext cx="63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sis y consoli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484280"/>
            <a:ext cx="92170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inicia en 197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banco de España trata al Popular y a los cinco bancos como un grupo bancario integ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75 el Popular preparó el plan de expansión de su 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76, se inicia una fuerte expansión por todo el territorio nac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duplican en cuatro el número de sucurs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fuerte crecimiento de la red se prolongó hasta 1985 cuando  una nueva legis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obre sociedades de cartera aconseja la refundición de Popularinsa en una so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7 se fusiona el banco Popular y Popularinsa, siendo absorbida la segunda po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im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mo consecuencia de esta absorción los recursos del Popular aumenta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eciocho mil trescientos cuatro millones de pesetas, el capital tres m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iscientos cincuenta y un millones y las reservas catorce mil seisc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ncuenta y tres millones. Desde entonces no se ha ampliado el capi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9:01Z</dcterms:created>
  <dc:creator>Colossus User</dc:creator>
  <dc:description/>
  <dc:language>en-US</dc:language>
  <cp:lastModifiedBy>Usuario</cp:lastModifiedBy>
  <dcterms:modified xsi:type="dcterms:W3CDTF">2009-05-07T20:16:02Z</dcterms:modified>
  <cp:revision>11</cp:revision>
  <dc:subject/>
  <dc:title>Diapositiva 1</dc:title>
</cp:coreProperties>
</file>